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14.wmf" ContentType="image/x-wmf"/>
  <Override PartName="/ppt/media/image1.png" ContentType="image/png"/>
  <Override PartName="/ppt/media/image2.png" ContentType="image/png"/>
  <Override PartName="/ppt/media/image3.wmf" ContentType="image/x-wmf"/>
  <Override PartName="/ppt/media/image13.jpeg" ContentType="image/jpeg"/>
  <Override PartName="/ppt/media/image4.wmf" ContentType="image/x-wmf"/>
  <Override PartName="/ppt/media/image15.gif" ContentType="image/gif"/>
  <Override PartName="/ppt/media/image7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535-3AF1-47CC-A9EA-BA42774C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0C7-790C-4150-8809-0700ECE2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465-83C6-4DA9-9C31-7F43FD17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F4D-F94A-4E10-B6E6-E5B1E20D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B0A-D38D-4DCA-983F-5CE5CD4C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420-5EBC-45EF-9534-3F8DC0F2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7DD-398B-4C32-AA34-918378C4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562-77E7-43A3-A33F-DE022592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C5E7-9A70-41AD-97F0-B4340943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0EC-4A82-43B8-AB10-F639DD7F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E0E-E040-4C8B-BF79-5341BC1F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1C93-0E52-4F78-89A3-201F7568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361F-B37D-448C-B27E-BAF8AF5C2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com/imgres?imgurl=http://pictures.spacebar.org/images/jello2004/extreme-jello.jpg&amp;imgrefurl=http://pictures.spacebar.org/f/a/photo/viewpic/2/238/1/&amp;h=531&amp;w=800&amp;sz=42&amp;hl=en&amp;start=6&amp;tbnid=diCGr3SG-_F8-M:&amp;tbnh=95&amp;tbnw=143&amp;prev=/images%3Fq%3Djello%26svnum%3D10%26hl%3Den%26lr%3D%26sa%3DN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image" Target="../media/image15.gif"/><Relationship Id="rId6" Type="http://schemas.openxmlformats.org/officeDocument/2006/relationships/image" Target="../media/image16.jpeg"/><Relationship Id="rId7" Type="http://schemas.openxmlformats.org/officeDocument/2006/relationships/image" Target="../media/image17.wmf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Century Gothic"/>
              </a:rPr>
              <a:t>VOCAB SECTIONS </a:t>
            </a: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Century Gothic"/>
              </a:rPr>
              <a:t>1-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Alice, Guerry, and Elea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10 Points: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Match the picture with the right wo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ssem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top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r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eck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iqu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0" y="4800600"/>
            <a:ext cx="153828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629400" y="3048120"/>
            <a:ext cx="1666800" cy="155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267080" y="4572000"/>
            <a:ext cx="1747800" cy="167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581280" y="2362320"/>
            <a:ext cx="2514600" cy="14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553080" y="9144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57600" y="5867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58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579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45820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61048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10 Points Cont.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rack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lc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u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d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ropr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238880" y="1219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086600" y="3505320"/>
            <a:ext cx="1619280" cy="2023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267080" y="16002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819520" y="3124080"/>
            <a:ext cx="2712960" cy="1808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4876920" y="5105520"/>
            <a:ext cx="1574640" cy="1560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19720" y="6172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5257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4495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10 Poi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ng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ci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sch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connaiss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nco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u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05720" y="1676520"/>
            <a:ext cx="1361880" cy="904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3244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010280" y="2971800"/>
            <a:ext cx="916200" cy="1127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0773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7742160" y="4800600"/>
            <a:ext cx="78264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315200" y="5791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5029200" y="4495680"/>
            <a:ext cx="1494000" cy="995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95680" y="5334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5105520" y="2971800"/>
            <a:ext cx="1041120" cy="1046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724280" y="358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3352680" y="1371600"/>
            <a:ext cx="1646280" cy="1316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105520" y="2286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entury Gothic"/>
              </a:rPr>
              <a:t>20 points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: Synonym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tch the correct word with its synony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Unwo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imord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v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ef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447920"/>
            <a:ext cx="3657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hibit, manifest, occ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iginal, Prim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nusual, uncommon, atyp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preh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20 Points Co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el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rro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cendi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mmar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erbi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mand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omptness,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rebrand, provo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brup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erbosity, diction, j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30 points: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Antonym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tch the word with its antony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rti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bstant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h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ret, co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esh, novel, original,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o mu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ury, 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fute, disprove, inval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30 Points Cont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istr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ev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rect, straight forward,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defe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ow-keyed, m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3:28:53Z</dcterms:created>
  <dc:creator>User</dc:creator>
  <dc:description/>
  <dc:language>en-US</dc:language>
  <cp:lastModifiedBy>User</cp:lastModifiedBy>
  <dcterms:modified xsi:type="dcterms:W3CDTF">2006-10-10T13:25:19Z</dcterms:modified>
  <cp:revision>4</cp:revision>
  <dc:subject/>
  <dc:title>VOCAB SECTIONS 1-3</dc:title>
</cp:coreProperties>
</file>